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B25-5EDF-4D01-ABC3-41214864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809-C8AD-4C90-83D8-0A4DC30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0DD-7480-443E-8953-97D59151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DE1-8881-4DD0-B5C4-D2F1303D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051-083A-4FC7-8632-55399C86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D67-09EB-419A-9317-D1DBDA3E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000-7DE3-4743-82CE-AAE43BD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B66-076E-4898-8915-EDC8859D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BB9-AB56-40F4-855F-4808BA4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14A-BFDD-4CAE-9272-8D7F12C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169-8809-47B2-9AF3-8A18CD9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A5E-4FEA-470A-8EE9-6AF3835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A0E2-5161-4B3F-8CBF-829799DF4F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33400">
            <a:off x="-612720" y="1844280"/>
            <a:ext cx="91440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aur egungo etorkin latinoamerikarr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4:26Z</dcterms:created>
  <dc:creator>ik015111zz</dc:creator>
  <dc:description/>
  <dc:language>en-US</dc:language>
  <cp:lastModifiedBy>ik015111zz</cp:lastModifiedBy>
  <dcterms:modified xsi:type="dcterms:W3CDTF">2012-05-11T06:38:55Z</dcterms:modified>
  <cp:revision>2</cp:revision>
  <dc:subject/>
  <dc:title>Diapositiva 1</dc:title>
</cp:coreProperties>
</file>